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gif" ContentType="image/gif"/>
  <Override PartName="/ppt/media/image41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33.png" ContentType="image/png"/>
  <Override PartName="/ppt/media/image39.jpeg" ContentType="image/jpeg"/>
  <Override PartName="/ppt/media/image45.gif" ContentType="image/gif"/>
  <Override PartName="/ppt/media/image8.png" ContentType="image/pn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4.gif" ContentType="image/gif"/>
  <Override PartName="/ppt/media/image9.png" ContentType="image/png"/>
  <Override PartName="/ppt/media/image22.jpeg" ContentType="image/jpeg"/>
  <Override PartName="/ppt/media/image3.gif" ContentType="image/gif"/>
  <Override PartName="/ppt/media/image6.png" ContentType="image/png"/>
  <Override PartName="/ppt/media/image11.png" ContentType="image/png"/>
  <Override PartName="/ppt/media/image2.gif" ContentType="image/gif"/>
  <Override PartName="/ppt/media/image42.jpeg" ContentType="image/jpeg"/>
  <Override PartName="/ppt/media/image5.png" ContentType="image/png"/>
  <Override PartName="/ppt/media/image4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F03-0A5C-4531-BA07-60D2F080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DF2-737E-4985-9865-91DD534E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5E7-27D2-4995-AA72-B32DBA18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4906-729C-48B1-AEF8-A73DC2DF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96C-F32E-4FAB-AE76-15B1BAA7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925-B991-409A-9103-04799EEC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E2C-BB2E-476F-8798-9B6C7BD2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80B-2241-4DDB-9CCE-AFC15790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7E9-A2CA-42B3-A8B0-DCCBB6CA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D9B-7246-47C4-BF41-FA7A0E0F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11E-F604-4F91-B271-354AA7AA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286-FFE5-462B-BAFE-AB966D47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62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6528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98432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403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403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403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gif04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5440" y="36360"/>
            <a:ext cx="15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ff"/>
                </a:solidFill>
                <a:latin typeface="Arial"/>
                <a:ea typeface="黑体"/>
              </a:rPr>
              <a:t>第</a:t>
            </a:r>
            <a:r>
              <a:rPr b="1" lang="zh-CN" sz="1800" spc="-1" strike="noStrike">
                <a:solidFill>
                  <a:srgbClr val="00ffff"/>
                </a:solidFill>
                <a:latin typeface="Arial"/>
                <a:ea typeface="黑体"/>
              </a:rPr>
              <a:t>4</a:t>
            </a:r>
            <a:r>
              <a:rPr b="1" lang="zh-CN" sz="1800" spc="-1" strike="noStrike">
                <a:solidFill>
                  <a:srgbClr val="00ffff"/>
                </a:solidFill>
                <a:latin typeface="Arial"/>
                <a:ea typeface="黑体"/>
              </a:rPr>
              <a:t>章   数据库管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2895480" y="6461280"/>
            <a:ext cx="1524240" cy="3988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b19c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4952880" y="6461280"/>
            <a:ext cx="1524240" cy="3988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b19c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6934320" y="6461280"/>
            <a:ext cx="2209680" cy="3988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b19c"/>
                </a:solidFill>
                <a:latin typeface="Times New Roman"/>
                <a:ea typeface="华文行楷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gif016" descr=""/>
          <p:cNvPicPr/>
          <p:nvPr/>
        </p:nvPicPr>
        <p:blipFill>
          <a:blip r:embed="rId3"/>
          <a:stretch/>
        </p:blipFill>
        <p:spPr>
          <a:xfrm>
            <a:off x="0" y="6275520"/>
            <a:ext cx="9144000" cy="201600"/>
          </a:xfrm>
          <a:prstGeom prst="rect">
            <a:avLst/>
          </a:prstGeom>
          <a:ln w="0">
            <a:noFill/>
          </a:ln>
        </p:spPr>
      </p:pic>
      <p:pic>
        <p:nvPicPr>
          <p:cNvPr id="8" name="cartoon1" descr=""/>
          <p:cNvPicPr/>
          <p:nvPr/>
        </p:nvPicPr>
        <p:blipFill>
          <a:blip r:embed="rId4"/>
          <a:stretch/>
        </p:blipFill>
        <p:spPr>
          <a:xfrm>
            <a:off x="1752480" y="6423120"/>
            <a:ext cx="514440" cy="434880"/>
          </a:xfrm>
          <a:prstGeom prst="rect">
            <a:avLst/>
          </a:prstGeom>
          <a:ln w="0">
            <a:noFill/>
          </a:ln>
        </p:spPr>
      </p:pic>
      <p:pic>
        <p:nvPicPr>
          <p:cNvPr id="9" name="cartoon11" descr=""/>
          <p:cNvPicPr/>
          <p:nvPr/>
        </p:nvPicPr>
        <p:blipFill>
          <a:blip r:embed="rId5"/>
          <a:stretch/>
        </p:blipFill>
        <p:spPr>
          <a:xfrm>
            <a:off x="228600" y="640080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9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F024-2D5C-4694-BD35-A4BEC8D0B7B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34.xml"/><Relationship Id="rId5" Type="http://schemas.openxmlformats.org/officeDocument/2006/relationships/slide" Target="slide53.xml"/><Relationship Id="rId6" Type="http://schemas.openxmlformats.org/officeDocument/2006/relationships/slide" Target="slide53.xml"/><Relationship Id="rId7" Type="http://schemas.openxmlformats.org/officeDocument/2006/relationships/slide" Target="slide59.xml"/><Relationship Id="rId8" Type="http://schemas.openxmlformats.org/officeDocument/2006/relationships/hyperlink" Target="file:///&#31532;3&#31456;%20%20%20&#26381;&#21153;&#22120;&#31649;&#29702;.ppt" TargetMode="External"/><Relationship Id="rId9" Type="http://schemas.openxmlformats.org/officeDocument/2006/relationships/hyperlink" Target="file:///&#30446;&#24405;.ppt" TargetMode="External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&#31243;&#24207;&#28165;&#21333;4-1.doc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31243;&#24207;&#28165;&#21333;4-2.doc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&#31243;&#24207;&#28165;&#21333;4-3.doc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5.xml"/><Relationship Id="rId3" Type="http://schemas.openxmlformats.org/officeDocument/2006/relationships/image" Target="../media/image19.png"/><Relationship Id="rId4" Type="http://schemas.openxmlformats.org/officeDocument/2006/relationships/slide" Target="slide37.xml"/><Relationship Id="rId5" Type="http://schemas.openxmlformats.org/officeDocument/2006/relationships/image" Target="../media/image19.png"/><Relationship Id="rId6" Type="http://schemas.openxmlformats.org/officeDocument/2006/relationships/slide" Target="slide43.xml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4.xml"/><Relationship Id="rId3" Type="http://schemas.openxmlformats.org/officeDocument/2006/relationships/image" Target="../media/image29.png"/><Relationship Id="rId4" Type="http://schemas.openxmlformats.org/officeDocument/2006/relationships/slide" Target="slide55.xml"/><Relationship Id="rId5" Type="http://schemas.openxmlformats.org/officeDocument/2006/relationships/image" Target="../media/image29.png"/><Relationship Id="rId6" Type="http://schemas.openxmlformats.org/officeDocument/2006/relationships/slide" Target="slide58.xml"/><Relationship Id="rId7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7.xml"/><Relationship Id="rId3" Type="http://schemas.openxmlformats.org/officeDocument/2006/relationships/slide" Target="slide32.xml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hyperlink" Target="file:///&#31532;5&#31456;%20%20%20%20&#25968;&#25454;&#24211;&#23545;&#35937;&#30340;&#25805;&#20316;.ppt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Arial"/>
                <a:ea typeface="黑体"/>
              </a:rPr>
              <a:t>第</a:t>
            </a:r>
            <a:r>
              <a:rPr b="1" lang="zh-CN" sz="3000" spc="-1" strike="noStrike">
                <a:solidFill>
                  <a:srgbClr val="00ffff"/>
                </a:solidFill>
                <a:latin typeface="Arial"/>
                <a:ea typeface="黑体"/>
              </a:rPr>
              <a:t>4</a:t>
            </a:r>
            <a:r>
              <a:rPr b="1" lang="zh-CN" sz="3000" spc="-1" strike="noStrike">
                <a:solidFill>
                  <a:srgbClr val="00ffff"/>
                </a:solidFill>
                <a:latin typeface="Arial"/>
                <a:ea typeface="黑体"/>
              </a:rPr>
              <a:t>章   数据库管理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00200" y="2133360"/>
            <a:ext cx="6145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4.1   数据库的存储结构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4.2   </a:t>
            </a: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创建、修改和删除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4.3   数据库备份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4.4   </a:t>
            </a: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恢复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4.5   数据库的维护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>
            <a:hlinkClick r:id="rId8"/>
          </p:cNvPr>
          <p:cNvSpPr/>
          <p:nvPr/>
        </p:nvSpPr>
        <p:spPr>
          <a:xfrm>
            <a:off x="2895480" y="6461280"/>
            <a:ext cx="1524240" cy="3988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b19c"/>
                </a:solidFill>
                <a:latin typeface="Times New Roman"/>
                <a:ea typeface="华文行楷"/>
              </a:rPr>
              <a:t>上一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>
            <a:hlinkClick r:id="rId9"/>
          </p:cNvPr>
          <p:cNvSpPr/>
          <p:nvPr/>
        </p:nvSpPr>
        <p:spPr>
          <a:xfrm>
            <a:off x="7086600" y="6461280"/>
            <a:ext cx="2057400" cy="3988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b19c"/>
                </a:solidFill>
                <a:latin typeface="Times New Roman"/>
                <a:ea typeface="华文行楷"/>
              </a:rPr>
              <a:t>返回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1464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3-1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3795840" cy="4572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251400" y="1412640"/>
            <a:ext cx="546120" cy="41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向导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92896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3.2" descr="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1752480" y="1219320"/>
            <a:ext cx="5181840" cy="3800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754360" y="5257800"/>
            <a:ext cx="37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欢迎使用创建数据库向导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7716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3.3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333760" cy="3810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439000" y="5486400"/>
            <a:ext cx="39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入数据库名称和文件位置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8004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3.4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5791320" cy="4203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41760" y="5410080"/>
            <a:ext cx="48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定义数据库文件逻辑名称及初始大小对话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77164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3.5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5791320" cy="4105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619720" y="5451480"/>
            <a:ext cx="34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定义数据库增长信息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098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3.6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5715000" cy="4140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181960" y="548640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定义事务日志文件名称及初始大小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0980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3.7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5715000" cy="4154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451600" y="5410080"/>
            <a:ext cx="39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定义事务日志文件增长信息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861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3.8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715000" cy="4149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808720" y="5486400"/>
            <a:ext cx="30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确认创建数据库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）使用企业管理器创建数据库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１）在企业管理器中，单击工具栏中的         图标，或在数据库文件夹或其下属任一数据库图标上单击右键，选择新建数据库选项，就会出现如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9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的对话框。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２）在常规（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General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页框中，要求用户输入数据库名称以及排序规则名称。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３）点击数据文件（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ata File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页框，该页框用来输入数据库文件的逻辑名称、存储位置、初始容量大小和所属文件组名称，如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1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４）点击事务日志（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Transaction Log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页框，该页框用来设置事务日志文件信息，如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1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５）单击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1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中的“确定”按钮，则开始创建新的数据库。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8632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第三章小图标2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3902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9548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3.9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419360" cy="3905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11360" y="548640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创建数据库对话框中的常规页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235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4.1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数据库的存储结构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5640" y="2895120"/>
            <a:ext cx="5715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4.1.1  数据库文件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4.1.2  数据库文件组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2888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3.10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4562280" cy="4038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64760" y="5410080"/>
            <a:ext cx="42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创建数据库对话框中的数据文件页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80512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3.11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4648320" cy="4059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55040" y="5562720"/>
            <a:ext cx="42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创建数据库对话框中的事务日志页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46784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） 使用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Transact-SQL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语言创建数据库，语法如下：</a:t>
            </a:r>
            <a:endParaRPr b="1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162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 DATABASE database_nam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ON [PRIMARY]  [&lt;filespec&gt; 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…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]  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filegroupspec&gt; 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…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]]  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LOG ON {&lt;filespec&gt; 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…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]}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FOR RESTORE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filespec&gt;::=([NAME=logical_file_name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ILENAME=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‘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os_file_name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’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IZE=size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AXSIZE={max_size|UNLIMITED}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ILEGROWTH=growth_increment] )  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…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filegroupspec&gt;::=FILEGROUP filegroup_name &lt;filespec&gt; 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…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database_nam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数据库的名称，最长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28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个字符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PRIMARY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该选项是一个关键字，指定主文件组中的文件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LOG ON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指明事务日志文件的明确定义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NAM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指定数据库的逻辑名称，这是在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系统中使用的名称，是数据库在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中的标识符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6360" y="101592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各参数说明如下：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FILENAM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指定数据库所在文件的操作系统文件名称和路径，该操作系统文件名和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NAM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的逻辑名称一一对应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IZ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指定数据库的初始容量大小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MAXSIZ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指定操作系统文件可以增长到的最大尺寸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FILEGROWTH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指定文件每次增加容量的大小，当指定数据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时，表示文件不增长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例子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4-1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：创建了一个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Company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数据库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创建了一个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Company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数据库，该数据库的主数据文件逻辑名称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Company_data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物理文件名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Company.mdf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初始大小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0MB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最大尺寸为无限大，增长速度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；数据库的日志文件逻辑名称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Company_log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物理文件名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Company.ldf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初始大小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MB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最大尺寸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5MB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增长速度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MB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程序清单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4-1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495288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例子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4-2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：</a:t>
            </a:r>
            <a:r>
              <a:rPr b="1" lang="zh-CN" sz="2100" spc="-1" strike="noStrike">
                <a:solidFill>
                  <a:srgbClr val="00ffff"/>
                </a:solidFill>
                <a:latin typeface="Times New Roman"/>
              </a:rPr>
              <a:t>创建一个指定多个数据文件和日志文件的数据库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该数据库名称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0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数据文件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0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事务日志文件。数据文件逻辑名称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物理文件名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1.md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2.md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主文件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由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rimar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，两个数据文件的最大尺寸分别为无限大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00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增长速度分别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事务日志文件的逻辑名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log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log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物理文件名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log1.ld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log2.ld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最大尺寸均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0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文件增长速度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其源程序为：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533412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ffff"/>
                </a:solidFill>
                <a:latin typeface="Arial"/>
                <a:ea typeface="Arial"/>
              </a:rPr>
              <a:t>4.2.2  </a:t>
            </a:r>
            <a:r>
              <a:rPr b="0" lang="zh-CN" sz="3000" spc="-1" strike="noStrike">
                <a:solidFill>
                  <a:srgbClr val="00ffff"/>
                </a:solidFill>
                <a:latin typeface="Arial"/>
                <a:ea typeface="黑体"/>
              </a:rPr>
              <a:t>修改数据库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利用企业管理器修改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LTER DATABAS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句修改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利用企业管理器修改数据库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中的各选项说明如下 ：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NSI NUL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默认设置：允许在数据库表的列中输入空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NUL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值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递归触发器：允许触发器递归调用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定的触发器递归调用的层数最多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层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动更新统计信息：允许使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ELECT INTO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C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RITETEX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UPDATETEX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命令向表中大量插入数据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残缺页检测：允许自动检测有损坏的页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动关闭：当数据库中无用户时，自动关闭该数据库，并将所占用的资源交还给操作系统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066680" y="1447920"/>
            <a:ext cx="7143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自动收缩：允许定期对数据库进行检查，当数据库文件或日志文件的未用空间超过其大小的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25%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时，系统将会自动缩减文件使其未用空间等于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25%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自动创建统计信息：在优化查询（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Query Optimiz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）时，根据需要自动创建统计信息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使用被引用的标识符：标识符必须用双引号括起来，且可以不遵循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Transact-SQL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命名标准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46784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1.1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数据库文件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逻辑存储结构和物理存储结构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数据库的逻辑存储结构指的是数据库是由哪些性质的信息所组成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数据库不仅仅只是数据的存储，所有与数据处理操作相关的信息都存储在数据库中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数据库的物理存储结构则是讨论数据库文件是如何在磁盘上存储的，数据库在磁盘上是以文件为单位存储的，由数据库文件和事务日志文件组成，一个数据库至少应该包含一个数据库文件和一个事务日志文件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2. 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使用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ALTER DATABASE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语句修改数据库语法形式如下： </a:t>
            </a:r>
            <a:endParaRPr b="1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Alter database databasenam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{add file&lt;filespec&gt;[,…n] [to filegroup filegroupname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add log file &lt;filespec&gt;[,…n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remove file logical_file_name [with delete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modify file &lt;filespec&gt;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modify name=new_databasenam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add filegroup filegroup_nam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remove filegroup filegroup_nam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modify filegroup filegroup_nam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{filegroup_property|name=new_filegroup_name}}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例子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-3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例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添加一个包含两个数据文件的文件组和一个事务日志文件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mployee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中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清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380988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144792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2.3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删除数据库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利用企业管理器删除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利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ro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句删除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ro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句可以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一次删除一个或多个数据库。其语法如下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rop database database_name[,…n]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例子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-4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：删除创建的数据库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company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。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清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rop database compan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输出结果为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eleting database file 'd:\mssql7\data\company.ldf'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eleting database file 'd:\mssql7\data\company.mdf'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6782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3 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数据库备份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4760" y="2285640"/>
            <a:ext cx="5002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66996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4.3.1  备份概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66996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4.3.2  创建备份设备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66996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4.3.3  备份的执行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3.1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备份概述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37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备份就是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或事务日志进行备份，数据库备份记录了在进行备份这一操作时数据库中所有数据的状态，以便在数据库遭到破坏时能够及时地将其恢复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SQL Server 2000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四种备份方式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397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一）完全数据库备份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adabase-complet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397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二）差异备份或称增量备份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adabase-differentia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397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三）事务日志备份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Transaction log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397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四）数据库文件和文件组备份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File and filegrou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ffff"/>
                </a:solidFill>
                <a:latin typeface="Arial"/>
                <a:ea typeface="黑体"/>
              </a:rPr>
              <a:t>4.3.2  </a:t>
            </a:r>
            <a:r>
              <a:rPr b="0" lang="zh-CN" sz="3000" spc="-1" strike="noStrike">
                <a:solidFill>
                  <a:srgbClr val="00ffff"/>
                </a:solidFill>
                <a:latin typeface="Arial"/>
                <a:ea typeface="黑体"/>
              </a:rPr>
              <a:t>创建备份设备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进行备份以前首先必须指定或创建备份设备，备份设备是用来存储数据库、事务日志或文件和文件组备份的存储介质，备份设备可以是硬盘、磁带或管道。当使用磁盘时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允许将本地主机硬盘和远程主机上的硬盘作为备份设备，备份设备在硬盘中是以文件的方式存储的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创建备份设备的两种方法 ：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 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企业管理器创建备份设备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17---4-1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系统存储过程创建备份设备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，可以使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p_addumpdevic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句创建备份设备，其语法形式如下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</a:rPr>
              <a:t>sp_addumpdevice {‘device_type’}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[,’logical_name’][,’physical_name’][,{{controller_type|’device_status’}}]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9536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2" descr=""/>
          <p:cNvPicPr/>
          <p:nvPr/>
        </p:nvPicPr>
        <p:blipFill>
          <a:blip r:embed="rId1">
            <a:grayscl/>
            <a:lum contrast="6000"/>
          </a:blip>
          <a:srcRect l="0" t="0" r="0" b="8612"/>
          <a:stretch/>
        </p:blipFill>
        <p:spPr>
          <a:xfrm>
            <a:off x="1676520" y="1371600"/>
            <a:ext cx="5248080" cy="3591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93080" y="522288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使用企业管理器创建备份设备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1.1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数据库文件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数据库文件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rimary Database Fil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辅助数据库文件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econdary Database Fil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事务日志文件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20040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1" descr="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1295280" y="1295280"/>
            <a:ext cx="5715000" cy="3691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477520" y="533412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入备份设备属性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例子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-5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：在磁盘上创建了一个备份设备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清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</a:rPr>
              <a:t>use mas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Courier New"/>
              </a:rPr>
              <a:t>exec sp_addumpdevice ‘disk’, ‘backup_company’, ‘c:\mssql7\backup\bk_company.bak’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删除备份设备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删除备份设备与创建的过程类似，只须在企业管理器中选中要删除的备份设备，在弹出的菜单中选择删除选项即可删除该备份设备。或者使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p_dropdevic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语句来删除备份设备。其语法如下：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urier New"/>
              </a:rPr>
              <a:t>sp_dropdevice [‘logical_name’][,’delfile’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删除上面创建的备份设备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urier New"/>
              </a:rPr>
              <a:t>sp_dropdevice ‘backup_company’, ‘c:\mssql7\backup\bk_company.bak’ 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3.3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备份的执行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系统提供了三种数据库备份操作的方法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1)SQL Server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企业管理器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备份向导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3)Transact-SQ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句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１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使用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SQL Server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企业管理器进行备份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１）启动企业管理器，登录到指定的数据库服务器，打开数据库文件夹，用右键单击所要进行备份的数据库图标，在弹出的快捷菜单中选择所有任务，再选择备份数据库 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２）出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备份对话框，对话框中有两个页框，即常规和选项页框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３）在常规页框中，选择备份数据库的名称、操作的名称、描述信息、备份的类型、备份的介质、备份的执行时间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４）通过单击添加按钮选择备份设备 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５）选择调度复选框，来改变备份的时间安排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在选项页框中进行附加设置 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6629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２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. 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使用备份向导 （图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4-25 --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图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4-31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） </a:t>
            </a:r>
            <a:endParaRPr b="1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8144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828800"/>
            <a:ext cx="4662720" cy="3441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285640" y="56386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欢迎使用向导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0044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1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424160"/>
            <a:ext cx="4800600" cy="3509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851920" y="533412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数据库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80980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1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00200" y="1219320"/>
            <a:ext cx="5038560" cy="3717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82480" y="5410080"/>
            <a:ext cx="39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入备份名称和描述信息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80044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1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1143000"/>
            <a:ext cx="5200560" cy="3816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241720" y="529920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备份数据库类型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0044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1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1066680"/>
            <a:ext cx="5124240" cy="37753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160360" y="5334120"/>
            <a:ext cx="39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备份介质类型和属性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1.2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数据库文件组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2361960"/>
            <a:ext cx="72118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了便于分配和管理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允许将多个文件归纳为同一组，并赋予此组一个名称，这就是文件组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数据库文件一样，文件组也分为主文件组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rimary File Grou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和次文件组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econdary File Grou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0512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1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143000"/>
            <a:ext cx="5410440" cy="3981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667240" y="54100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备份验证和调度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80044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1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066680"/>
            <a:ext cx="5200920" cy="3816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421720" y="5334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1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确认执行备份操作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使用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Transact-SQL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语句备份数据库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其语法形式如下：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Backup databas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{database_name|@database_name_var}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to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backup_file&gt;[,…n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[with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format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{init|noinit}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restart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backup_file&gt;::={backup_file_name|@backup_file_evar}|{disk|tape|pipe}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={temp_file_name|@temp_file_name_evar}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4 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恢复数据库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057040" y="228564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66996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4.4.1  恢复概述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66996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4.4.2  恢复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66996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4.4.3  恢复系统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4.1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恢复概述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备份后，一旦系统发生崩溃或者执行了错误的数据库操作，就可以从备份文件中恢复数据库。数据库恢复是指将数据库备份加载到系统中的过程。系统在恢复数据库的过程中，自动执行安全性检查、重建数据库结构以及完整数据库内容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4.2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恢复数据库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企业管理器恢复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打开企业管理器，单击要登录的数据库服务器，然后从主菜单中选择工具，在菜单中选择还原数据库命令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在还原为数据库旁的下拉列表中选择要恢复的数据库，在还原组中通过单击单选按钮来选择相应的数据库备份类型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选中选项页框，进行其它选项的设置 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其语法形式如下： 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estore  database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from &lt;backup_device[],…n&gt;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with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file=file_number]                           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move ‘logical_file_name’ to ‘operating_system_file_name’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replace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{norecovery|recovery|standby=undo_file_name}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backup_device&gt;::={{backup_device_name|@backup_device_name_evar}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|{disk|tape|pipe}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={temp_backup_device|@temp_backup_device_var}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7640" y="685800"/>
            <a:ext cx="43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ransact-SQ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语句恢复数据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例子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-7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：从备份设备中恢复数据库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ackup_compan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备份设备中恢复数据库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ompan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清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use master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restore database compan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 backup_compan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4.3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恢复系统数据库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关闭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运行系统安装目录下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子目录下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rebuilem.ex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件，这是个命令行程序，运行后可以重新创建系统数据库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系统数据库重新建立后，启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启动后，系统数据库是空的，没有任何系统信息。因此，需要从备份数据库中恢复。一般是先恢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ast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，再恢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sd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，最后恢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od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5 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数据库的维护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利用数据库的维护计划向导可以方便地设置数据库的核心维护任务，以便于定期地执行这些任务，其创建数据库维护计划的步骤如下：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35-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4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4.2 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创建、修改和删除数据库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28440" y="2361960"/>
            <a:ext cx="4925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4.2.1  创建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4.2.2  修改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4.2.3  删除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3432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3-35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4971960" cy="37404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781360" y="522288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数据库维护计划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15756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371600"/>
            <a:ext cx="4648320" cy="33638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231280" y="518148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欢迎使用维护计划向导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157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1066680"/>
            <a:ext cx="4995720" cy="3632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547000" y="50292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数据库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96712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4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5033880" cy="36594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271240" y="510552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更新数据优化信息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043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219320"/>
            <a:ext cx="4881600" cy="35272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431440" y="50706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编辑循环作业调度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03840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143000"/>
            <a:ext cx="5267520" cy="3827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505960" y="525780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检查数据库完整性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8004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216080"/>
            <a:ext cx="5257800" cy="3816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59240" y="529920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数据库备份计划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8004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295280"/>
            <a:ext cx="5257800" cy="38163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123640" y="5486400"/>
            <a:ext cx="43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数据库备份文件存放目录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8004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1066680"/>
            <a:ext cx="5505480" cy="3996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402640" y="541008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3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事务日志备份计划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80044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1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295280"/>
            <a:ext cx="5124600" cy="3692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363040" y="5257800"/>
            <a:ext cx="42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事务志文件备份存放目录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2.1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创建数据库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7560" y="2286000"/>
            <a:ext cx="5916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每个数据库都由以下几个部分的数据库对象所组成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关系图、表、视图、存储过程、用户、角色、规则、默认、用户自定义数据类型和用户自定义函数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03840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1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143000"/>
            <a:ext cx="5334120" cy="3876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506680" y="525780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-4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维护计划生成报表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96712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1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066680"/>
            <a:ext cx="5486400" cy="39895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197080" y="5257800"/>
            <a:ext cx="44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维护计划历史记录存放位置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03840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1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00200" y="1295280"/>
            <a:ext cx="4734000" cy="34401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152080" y="51055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数据库维护计划名称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39544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1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066680" y="1143000"/>
            <a:ext cx="6705720" cy="4094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446200" y="5486400"/>
            <a:ext cx="39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库维护计划对象选择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93832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15" descr=""/>
          <p:cNvPicPr/>
          <p:nvPr/>
        </p:nvPicPr>
        <p:blipFill>
          <a:blip r:embed="rId1">
            <a:grayscl/>
          </a:blip>
          <a:srcRect l="675" t="0" r="0" b="0"/>
          <a:stretch/>
        </p:blipFill>
        <p:spPr>
          <a:xfrm>
            <a:off x="1752480" y="1012680"/>
            <a:ext cx="4800600" cy="4114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471760" y="541008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库维护计划编辑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090920" y="179964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谢谢您的光临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4400" y="9144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Monotype Corsiva"/>
              </a:rPr>
              <a:t>Thank you very much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computer7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2514600" cy="1981080"/>
          </a:xfrm>
          <a:prstGeom prst="rect">
            <a:avLst/>
          </a:prstGeom>
          <a:ln w="0">
            <a:noFill/>
          </a:ln>
        </p:spPr>
      </p:pic>
      <p:sp>
        <p:nvSpPr>
          <p:cNvPr id="310" name="">
            <a:hlinkClick r:id="rId2"/>
          </p:cNvPr>
          <p:cNvSpPr/>
          <p:nvPr/>
        </p:nvSpPr>
        <p:spPr>
          <a:xfrm>
            <a:off x="4952880" y="6461280"/>
            <a:ext cx="1524240" cy="3988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b19c"/>
                </a:solidFill>
                <a:latin typeface="Times New Roman"/>
                <a:ea typeface="华文行楷"/>
              </a:rPr>
              <a:t>下一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创建数据库的方法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2514600"/>
            <a:ext cx="678168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8360" indent="-1983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向导创建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企业管理器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nterprise Manag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创建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Transact-SQ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言创建数据库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（一）使用向导创建数据库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240" y="2666520"/>
            <a:ext cx="67546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以下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1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到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使用向导创建数据库 ，用户根据提示操作，即可创建数据库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7T02:18:19Z</dcterms:created>
  <dc:creator>haier</dc:creator>
  <dc:description/>
  <dc:language>en-US</dc:language>
  <cp:lastModifiedBy>lcb</cp:lastModifiedBy>
  <dcterms:modified xsi:type="dcterms:W3CDTF">2001-08-19T08:41:41Z</dcterms:modified>
  <cp:revision>65</cp:revision>
  <dc:subject/>
  <dc:title>第4章   数据库管理</dc:title>
</cp:coreProperties>
</file>